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89D-0B0F-4CB9-A986-517240BA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F46-512D-4439-8174-C7979FC0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4E6-1078-4819-BB80-22E6F235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057-A8AB-455D-8DF9-983BFD87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87C-626F-46EB-BF98-33F4077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308-287D-4685-9942-4B1F736F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705-C1B5-4D07-A8EB-8CFF937E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68D-E29F-4786-A0EA-FF17A42E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A6B-5344-4B8E-9929-3A311A6F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7A4-4AD8-4577-8403-0723BE46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68B-8E94-49CC-B3E5-597491F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5FF-CAD8-445F-8C18-035ACCA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B72-8EAB-4A3F-81B4-C09C1C97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72392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anklin Gothic Heavy"/>
              </a:rPr>
              <a:t>Bad Dog, Dodger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590560"/>
            <a:ext cx="4038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*Week 3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0844080000[1]"/>
          <p:cNvPicPr/>
          <p:nvPr/>
        </p:nvPicPr>
        <p:blipFill>
          <a:blip r:embed="rId1"/>
          <a:stretch/>
        </p:blipFill>
        <p:spPr>
          <a:xfrm>
            <a:off x="4572000" y="2209680"/>
            <a:ext cx="42703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ranklin Gothic Heavy"/>
              </a:rPr>
              <a:t>A weekly helper came to our class for the whole day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I had enough meat to make the biggest, fattest sandwich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ranklin Gothic Heavy"/>
              </a:rPr>
              <a:t>Look above the shelf at the lovely gift for my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It is the hardest word to read since it is longer than mo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The story began, “Long ago, there was a graceful dancer.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anklin Gothic Heavy"/>
              </a:rPr>
              <a:t>The doctor seems the busiest toward the end of the da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Cj00844080000[1]"/>
          <p:cNvPicPr/>
          <p:nvPr/>
        </p:nvPicPr>
        <p:blipFill>
          <a:blip r:embed="rId1"/>
          <a:stretch/>
        </p:blipFill>
        <p:spPr>
          <a:xfrm>
            <a:off x="6172200" y="3809880"/>
            <a:ext cx="2678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27:49Z</dcterms:created>
  <dc:creator>llefever</dc:creator>
  <dc:description/>
  <dc:language>en-US</dc:language>
  <cp:lastModifiedBy>teacher</cp:lastModifiedBy>
  <dcterms:modified xsi:type="dcterms:W3CDTF">2011-02-22T02:03:09Z</dcterms:modified>
  <cp:revision>2</cp:revision>
  <dc:subject/>
  <dc:title>Bad Dog, Dodger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53792661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